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4C0-1E91-4606-A6A3-13C60AC6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F52-6869-4937-BB17-9E5263C5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771-E85B-4A4A-B12E-4C393A04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060-A093-4C60-B168-37C9BDF2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07D-857C-4DBC-AB32-F0A9A5E5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1E2-A0E3-4B79-BED7-FCB4E6DC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483-A814-4A52-9A4A-8D432B0F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C2D-A2DE-49AA-A34A-3A384DC8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6A2-05E6-4076-B54C-DDF0FCEC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181-DAED-4CB7-9129-AC096BC0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782-ED4F-4CD5-AD2E-D121AB8D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B93-7635-4760-9D2C-BE5B3DA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E725-CCAE-4494-BC56-23423D5C6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enses to gather information about an object or even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s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m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assify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grouping or ordering object or events into categories based on properties or criter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placing all students who play soccer into a group and those who don’t into anothe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fer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making an educated guess about an object or event based on previously gathered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saying that the person who used a pencil made a lot of mistakes because the eraser was well w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mmunica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words or graphic symbols to describe an action, object,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rite about you!  No first pers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gi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ph to depict the relationship of your weight and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age of your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your height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ic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stating the outcome of a future event based on a pattern of evi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– If Chris shoots the basketball 10 times with his right hand and makes all 10, then shoots the ball 10 times with his left hand and only makes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prediction if he shoots with his left hand? Right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- using the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- using exac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800px-Jelly_Monterey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459980505_1605ec3638_o[1]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ntitled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kunk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3" descr="optical_illusion.jpg"/>
          <p:cNvPicPr/>
          <p:nvPr/>
        </p:nvPicPr>
        <p:blipFill>
          <a:blip r:embed="rId1"/>
          <a:stretch/>
        </p:blipFill>
        <p:spPr>
          <a:xfrm>
            <a:off x="2344680" y="1600200"/>
            <a:ext cx="445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– surface of an object     Length x Width of a rectangle        measured in square units.  14 sq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- the amount of space an object takes up.  Length x width x height  measured in cubic units 14 units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asur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sing both standard and nonstandard measures or estimates to describe the dimensions of an object or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– using a ruler to find out how long of a fish you caught (Standard or Me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standard – using a pencil to find out how tall you are.  I am 10 pencils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help when you do not have a standardized measur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2:33:22Z</dcterms:created>
  <dc:creator>ISD882</dc:creator>
  <dc:description/>
  <dc:language>en-US</dc:language>
  <cp:lastModifiedBy>Chad Heers</cp:lastModifiedBy>
  <dcterms:modified xsi:type="dcterms:W3CDTF">2017-08-23T18:19:44Z</dcterms:modified>
  <cp:revision>10</cp:revision>
  <dc:subject/>
  <dc:title>Observation-  using the senses to gather information about an object or event.  </dc:title>
</cp:coreProperties>
</file>