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98DD-AF47-400C-9905-98AFCD27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9A5B-4AD6-4310-88E9-574DEBDD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8CC9-1805-4E39-8FEB-713161C1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C843-DB1D-439B-BF4C-1837BDD1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8B0B-E8CA-4E71-BA8A-71D656AD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06F1-5A8E-4D12-A61E-63500B50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82B4-56C4-46A5-8E44-8D3FBAC0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CC6C-BD34-42A8-BE4D-49B53B35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4144-E0AA-4935-881C-6E4DF548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2CD2-E0D1-4CA8-A5F9-87767293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3A6-3093-4A56-8C61-C104FF3E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968D-40BF-4C23-B1FB-820B76EE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8314-FFF4-4B81-A8A3-3A257E63A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serv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the senses to gather information about an object or event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 se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o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a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m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assify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grouping or ordering object or events into categories based on properties or criter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– placing all students who play soccer into a group and those who don’t into another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fer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making an educated guess about an object or event based on previously gathered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– saying that the person who used a pencil made a lot of mistakes because the eraser was well w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mmunicat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using words or graphic symbols to describe an action, object, or ev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write about you!  No first pers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gi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ph to depict the relationship of your weight and 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the age of your family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your height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ict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stating the outcome of a future event based on a pattern of eviden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– If Chris shoots the basketball 10 times with his right hand and makes all 10, then shoots the ball 10 times with his left hand and only makes 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prediction if he shoots with his left hand? Right h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- using the s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- using exact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ative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800px-Jelly_Monterey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ative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2459980505_1605ec3638_o[1]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ative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untitled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ative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skunk"/>
          <p:cNvPicPr/>
          <p:nvPr/>
        </p:nvPicPr>
        <p:blipFill>
          <a:blip r:embed="rId1"/>
          <a:stretch/>
        </p:blipFill>
        <p:spPr>
          <a:xfrm>
            <a:off x="838080" y="1447920"/>
            <a:ext cx="7391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3" descr="optical_illusion.jpg"/>
          <p:cNvPicPr/>
          <p:nvPr/>
        </p:nvPicPr>
        <p:blipFill>
          <a:blip r:embed="rId1"/>
          <a:stretch/>
        </p:blipFill>
        <p:spPr>
          <a:xfrm>
            <a:off x="2344680" y="1600200"/>
            <a:ext cx="445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itativ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– surface of an object     Length x Width of a rectangle        measured in square units.  14 sq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- the amount of space an object takes up.  Length x width x height  measured in cubic units 14 units cu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easur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using both standard and nonstandard measures or estimates to describe the dimensions of an object or ev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– using a ruler to find out how long of a fish you caught (Standard or Metr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standard – using a pencil to find out how tall you are.  I am 10 pencils t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help when you do not have a standardized measuring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2T12:33:22Z</dcterms:created>
  <dc:creator>ISD882</dc:creator>
  <dc:description/>
  <dc:language>en-US</dc:language>
  <cp:lastModifiedBy>Chad Heers</cp:lastModifiedBy>
  <dcterms:modified xsi:type="dcterms:W3CDTF">2017-08-23T18:19:44Z</dcterms:modified>
  <cp:revision>10</cp:revision>
  <dc:subject/>
  <dc:title>Observation-  using the senses to gather information about an object or event.  </dc:title>
</cp:coreProperties>
</file>