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987-1478-45C6-B8F9-C799C850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EA6-1716-4E0F-9804-0FF751D6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C5A-3A6F-4802-848D-639A9943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DC2-CABF-4EFD-B48A-2387E904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5F5-4DE2-4557-B884-531E538E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A99-4E79-4608-9AE8-84A94B11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106-F97B-48CB-B962-C261FE12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5A6-9F4F-4407-8A70-08F4AB85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10E-0ABE-4617-95AC-0BF8BD35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62D-3D77-47F8-B2D7-C4C85F1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E0F-6D46-493C-B588-1037285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340-AD93-435D-8663-BEF7C12E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237D-A0D4-449C-854F-789E46E9C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enses to gather information about an object or even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s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m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assify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grouping or ordering object or events into categories based on properties or crit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placing all students who play soccer into a group and those who don’t into anothe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making an educated guess about an object or event based on previously gathered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saying that the person who used a pencil made a lot of mistakes because the eraser was well w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munica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words or graphic symbols to describe an action, object,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rite about you!  No first pers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ph to depict the relationship of your weight and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age of your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your height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tating the outcome of a future event based on a pattern of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If Chris shoots the basketball 10 times with his right hand and makes all 10, then shoots the ball 10 times with his left hand and only makes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prediction if he shoots with his left hand? Right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- using the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- using exac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00px-Jelly_Monterey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459980505_1605ec3638_o[1]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ntitled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kunk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3" descr="optical_illusion.jpg"/>
          <p:cNvPicPr/>
          <p:nvPr/>
        </p:nvPicPr>
        <p:blipFill>
          <a:blip r:embed="rId1"/>
          <a:stretch/>
        </p:blipFill>
        <p:spPr>
          <a:xfrm>
            <a:off x="2344680" y="1600200"/>
            <a:ext cx="44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– surface of an object     Length x Width of a rectangle        measured in square units.  14 sq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- the amount of space an object takes up.  Length x width x height  measured in cubic units 14 units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both standard and nonstandard measures or estimates to describe the dimensions of an object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– using a ruler to find out how long of a fish you caught (Standard or Me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standard – using a pencil to find out how tall you are.  I am 10 pencils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help when you do not have a standardized measur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2:33:22Z</dcterms:created>
  <dc:creator>ISD882</dc:creator>
  <dc:description/>
  <dc:language>en-US</dc:language>
  <cp:lastModifiedBy>Chad Heers</cp:lastModifiedBy>
  <dcterms:modified xsi:type="dcterms:W3CDTF">2017-08-23T18:19:44Z</dcterms:modified>
  <cp:revision>10</cp:revision>
  <dc:subject/>
  <dc:title>Observation-  using the senses to gather information about an object or event.  </dc:title>
</cp:coreProperties>
</file>