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521-2705-48FE-A7B0-FAC4F172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98F-955F-4FB6-9B61-166CDC99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538-E03D-44C0-9523-A640F6C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4DE-60AB-4694-B8FB-26EB9265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55D-EA8F-4845-A0AB-B29B1EE0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EC3-9413-409B-8B67-1EA16B54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154-BF10-40E8-ADA0-4D46259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59B-E817-4250-89AF-FE364A6F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68D-5F4C-4BD5-9A06-80D466D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84B-038F-4847-826B-993CB1D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E1C-850D-4114-91D3-5DF4B7C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E24-C82A-4F61-9C84-EA05741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AD28-4C51-4F2C-997A-A1F66291C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enses to gather information about an object or ev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if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grouping or ordering object or events into categories based on properties or crit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placing all students who play soccer into a group and those who don’t into anothe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aking an educated guess about an object or event based on previously gathere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aying that the person who used a pencil made a lot of mistakes because the eraser was well w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ca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words or graphic symbols to describe an action, object,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rite about you!  No first per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o depict the relationship of your weight an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age of your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your heigh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tating the outcome of a future event based on a pattern of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If Chris shoots the basketball 10 times with his right hand and makes all 10, then shoots the ball 10 times with his left hand and only makes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rediction if he shoots with his left hand? Righ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- using th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- using exa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00px-Jelly_Monterey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59980505_1605ec3638_o[1]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ntitled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kunk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optical_illusion.jpg"/>
          <p:cNvPicPr/>
          <p:nvPr/>
        </p:nvPicPr>
        <p:blipFill>
          <a:blip r:embed="rId1"/>
          <a:stretch/>
        </p:blipFill>
        <p:spPr>
          <a:xfrm>
            <a:off x="2344680" y="160020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– surface of an object     Length x Width of a rectangle        measured in square units.  14 sq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the amount of space an object takes up.  Length x width x height  measured in cubic units 14 units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both standard and nonstandard measures or estimates to describe the dimensions of an object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– using a ruler to find out how long of a fish you caught (Standard or 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tandard – using a pencil to find out how tall you are.  I am 10 pencil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help when you do not have a standardized measur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33:22Z</dcterms:created>
  <dc:creator>ISD882</dc:creator>
  <dc:description/>
  <dc:language>en-US</dc:language>
  <cp:lastModifiedBy>Chad Heers</cp:lastModifiedBy>
  <dcterms:modified xsi:type="dcterms:W3CDTF">2017-08-23T18:19:44Z</dcterms:modified>
  <cp:revision>10</cp:revision>
  <dc:subject/>
  <dc:title>Observation-  using the senses to gather information about an object or event.  </dc:title>
</cp:coreProperties>
</file>